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4FB-F452-49A8-A692-2FA19915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4EF-D0B5-44A7-B995-3B6B486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7B7-35A4-4E18-B94A-1217360B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325-DA75-4A02-9D67-41489E02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1E7-CDC7-4FED-B544-08F20836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1AB-E432-4A00-A03E-3F672AE6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81F-ACE5-4984-BC14-953B5911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DF4-5D21-46F2-9466-5F46646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4A9-4E88-4ED9-AD12-5EEB8F6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0CB-6118-4033-97CD-2969B51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624-7A8A-42E4-AB05-848B8FF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D8A-64F3-4F7D-B4C0-BFE1D90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93F6-323F-44B1-AF0E-D9581A15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20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having a big hole of sewerage we can make the hole shall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63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chlorine we could insert artificial lights in the sewerage to kill the g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68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692280"/>
            <a:ext cx="691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sh and James’s new sewerage treatment pla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46:11Z</dcterms:created>
  <dc:creator>joshua.grove</dc:creator>
  <dc:description/>
  <dc:language>en-US</dc:language>
  <cp:lastModifiedBy>joshua.grove</cp:lastModifiedBy>
  <dcterms:modified xsi:type="dcterms:W3CDTF">2009-08-04T04:59:59Z</dcterms:modified>
  <cp:revision>5</cp:revision>
  <dc:subject/>
  <dc:title>Slide 1</dc:title>
</cp:coreProperties>
</file>